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059B-3FCC-46E5-BD07-47F1B65D5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3B82-EFAA-4774-B5E3-19D62AFA3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B592-5BC0-4C4A-9AE4-82D395323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61B0-6809-48AA-9A03-0530E9BD1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254A-ADB0-4876-9EA1-F3DDF0B06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5469-CCE2-488E-9AF9-6A39603C2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1CAD-FD74-41C7-A1E9-9CAF26F1F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04B7-B9F7-4DA2-9DB3-71A055970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9628-30EB-40BC-BFF7-2909D8209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9C1B-39C6-494B-83C6-52BC6E144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6B05-0C79-4C16-8D72-516BB93D7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1A59-249A-4CE5-B4C9-AAD3EBC72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F5114-1D5F-47C4-9942-97DE5DD203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8T15:54:18Z</dcterms:created>
  <dc:creator/>
  <dc:description/>
  <dc:language>en-US</dc:language>
  <cp:lastModifiedBy/>
  <dcterms:modified xsi:type="dcterms:W3CDTF">2009-12-18T15:54:53Z</dcterms:modified>
  <cp:revision>1</cp:revision>
  <dc:subject/>
  <dc:title/>
</cp:coreProperties>
</file>