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DA6-2805-4939-B02D-098E919C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C57-AA7F-42A3-A3AC-A063DAE6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1C8-D69C-4CE8-B3A3-8AF53B92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09E-20F1-4D7F-B1B6-868DAC97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BB7-EC9F-437B-9B43-DE6D9B2A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19D-710B-476F-8C02-6FE15D49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F03-5F05-4EF7-BFFE-D6ED4AE4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C92-B84E-4293-81D0-C9128F62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F89-3B49-4576-9A6A-A80DD8DD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E45-0730-41B2-89DC-7918B81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65C-2704-4931-9B32-92666DBC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5F0-D005-47E9-8357-5D845D1F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5636-4C55-4D4F-87E7-882CD6DFF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5:54:18Z</dcterms:created>
  <dc:creator/>
  <dc:description/>
  <dc:language>en-US</dc:language>
  <cp:lastModifiedBy/>
  <dcterms:modified xsi:type="dcterms:W3CDTF">2009-12-18T15:54:53Z</dcterms:modified>
  <cp:revision>1</cp:revision>
  <dc:subject/>
  <dc:title/>
</cp:coreProperties>
</file>